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CB0-1F39-46EB-BEFC-62CE0196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B78-E685-4649-B8AF-1D0ECBAB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CAA-AEAE-4493-B51A-26A93542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6E1-0A89-47D4-8699-DA0D26A1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AC6-0A4E-40B5-80DF-AD11247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C63-12EF-4D84-A0E9-68ADED97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1A8-BD2A-408B-8449-9B72F3A8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333-204A-445D-A2CE-34C6B284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602-4960-4A56-9544-9B5E0AA7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647-DCA8-454C-BF19-2009B69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2EA-AD57-41EB-8CCB-5180526B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A3C-E6FF-4697-AC4B-CA1929E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5EE2-AAD6-4913-AA71-4320589CF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name here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born on _________________ and died on _______________, or I am still alive and living in 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ttended ____________________ school as a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ttended ____________________ college/university when I was ol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y greatest accomplishment, or what I was mostly known for i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important accomplishment wa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rd important accomplishment wa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picture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4T19:18:06Z</dcterms:modified>
  <cp:revision>6</cp:revision>
  <dc:subject/>
  <dc:title>Who Am I?</dc:title>
</cp:coreProperties>
</file>